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709E-8A89-48D4-8D42-1219C50F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F87-911D-4CA4-B6D6-D3BD00DB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0229-41CD-4B09-90F7-7926E20D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734-95C0-4A18-A2A3-BCB2AB4D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4A2-1CCC-4FD0-9CA5-60F3FB9E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91D-68EF-451B-ABC6-2DE32394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59B2-6749-41B1-9D92-524008B0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4C2-B1F3-40F0-B9F3-2E2C2BEB4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7D5F-CD82-41BB-91F2-8B8E8FD2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06D9-DFE8-453D-8F69-BEE4B258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8E13-59BE-478A-9120-A0878F7E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647-D0D2-42DD-954B-8DD790A8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B4FC-151B-42CC-8A6F-4F5E60DE7D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165440" y="624852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CA2A1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 the Structure of th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my Div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52480" y="2133720"/>
            <a:ext cx="59436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3048120"/>
            <a:ext cx="3276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048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3048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48320" y="3048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5560" y="129528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47920" y="1981080"/>
            <a:ext cx="6172200" cy="3886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335268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DISCO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1219320"/>
            <a:ext cx="12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752480" y="2057400"/>
            <a:ext cx="586764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8380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838080"/>
            <a:ext cx="0" cy="1219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1752120" y="2133720"/>
            <a:ext cx="5867640" cy="297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2057400"/>
            <a:ext cx="5867640" cy="3048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7080" y="2362320"/>
            <a:ext cx="38124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648320" y="2362320"/>
            <a:ext cx="304560" cy="7617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52480" y="2057400"/>
            <a:ext cx="586764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2057400"/>
            <a:ext cx="243864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190760" y="2743200"/>
            <a:ext cx="342900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7432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9144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9907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676520" y="2057400"/>
            <a:ext cx="586728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91440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990720"/>
            <a:ext cx="0" cy="1066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2514600"/>
            <a:ext cx="586728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048120"/>
            <a:ext cx="5867280" cy="3047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15238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00800" y="1600200"/>
            <a:ext cx="0" cy="914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2209680"/>
            <a:ext cx="0" cy="838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4320" y="22860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8000" y="434340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76520" y="2057400"/>
            <a:ext cx="586728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2971800"/>
            <a:ext cx="297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5040" y="1219320"/>
            <a:ext cx="12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2590920"/>
            <a:ext cx="556272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971800"/>
            <a:ext cx="5257800" cy="243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 algn="ctr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438280"/>
            <a:ext cx="6934320" cy="31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295280" y="2438280"/>
            <a:ext cx="693432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2438280"/>
            <a:ext cx="693432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 algn="ctr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2438280"/>
            <a:ext cx="6934320" cy="31244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295280" y="2438280"/>
            <a:ext cx="6934320" cy="3124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95280" y="2438280"/>
            <a:ext cx="6934320" cy="3124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 rot="7126200">
            <a:off x="5458320" y="4268880"/>
            <a:ext cx="182808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 rot="14728800">
            <a:off x="2225160" y="4094280"/>
            <a:ext cx="1522800" cy="3810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 algn="ctr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438280"/>
            <a:ext cx="6934320" cy="312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295280" y="2438280"/>
            <a:ext cx="693432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438280"/>
            <a:ext cx="693432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34290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724280" y="3123720"/>
            <a:ext cx="30492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419720" y="312372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19720" y="51814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the Structure of the Army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556272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 algn="ctr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2438280"/>
            <a:ext cx="6934320" cy="3124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4800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295280" y="2438280"/>
            <a:ext cx="693432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2438280"/>
            <a:ext cx="6934320" cy="3124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 algn="ctr"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X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438280"/>
            <a:ext cx="6934320" cy="3124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29000" y="3352680"/>
            <a:ext cx="2895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M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419720" y="5335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137160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371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57600" y="243828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24382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362320" y="51814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772400" y="13716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733920" y="51814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426708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43828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33920" y="33526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1371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629400" y="1371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335268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518148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33526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62320" y="42670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251460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2514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57600" y="4267080"/>
            <a:ext cx="609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1371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2438280"/>
            <a:ext cx="609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34290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43434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434340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342900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629400" y="34290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9400" y="51055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57913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51814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98560" y="106668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228600"/>
            <a:ext cx="53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22440" y="10666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8080" y="1066680"/>
            <a:ext cx="33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9240" y="10666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910280" y="11286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1219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2286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907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4114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19320" y="4114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9072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90920" y="2286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4114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4114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460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15238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16765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25909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43000" y="27432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35053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657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44197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45720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533412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54864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86200" y="2286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22860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2362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10280" y="2362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77320" y="2362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32004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4120" y="3276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562720" y="3276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1680" y="3276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10280" y="3276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001000" y="3276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229600" y="3276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41148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96252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781680" y="4191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10280" y="4191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01000" y="4191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229600" y="41911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0100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229600" y="502920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0" y="49528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86200" y="35053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38480" y="365760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34120" y="3581280"/>
            <a:ext cx="533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86400" y="37339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001000" y="449568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153280" y="4648320"/>
            <a:ext cx="5335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56386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29400" y="6400800"/>
            <a:ext cx="5335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49960" y="160020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H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68920" y="2743200"/>
            <a:ext cx="47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H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3429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0" y="358128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0" y="3581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rot="2192400">
            <a:off x="6366240" y="4660200"/>
            <a:ext cx="1065960" cy="1065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422" y="122"/>
                </a:moveTo>
                <a:arcTo wR="10800" hR="10800" stAng="-4881780" swAng="3601914"/>
                <a:lnTo>
                  <a:pt x="10800" y="10800"/>
                </a:lnTo>
                <a:close/>
              </a:path>
              <a:path fill="none" w="21600" h="21600">
                <a:moveTo>
                  <a:pt x="12422" y="122"/>
                </a:moveTo>
                <a:arcTo wR="10800" hR="10800" stAng="-4881780" swAng="3601914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38280" y="1523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1523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37920" y="1523880"/>
            <a:ext cx="3812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38280" y="1523880"/>
            <a:ext cx="3812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81952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259092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437920" y="259092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2437920" y="35053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3505320"/>
            <a:ext cx="3049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8280" y="4419720"/>
            <a:ext cx="381240" cy="152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2361960" y="4267080"/>
            <a:ext cx="5331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819520" y="5334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437920" y="533412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5334120"/>
            <a:ext cx="38124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62320" y="518148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GSA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886200" y="44197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62520" y="44197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886200" y="4343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62520" y="43434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4495680"/>
            <a:ext cx="15228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7080" y="38862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86200" y="15238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384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10555800">
            <a:off x="3875400" y="5050800"/>
            <a:ext cx="151920" cy="43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597239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59723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3885840" y="53341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038480" y="533376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4864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477480" y="5943600"/>
            <a:ext cx="45648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5877200">
            <a:off x="6790320" y="5932080"/>
            <a:ext cx="4593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59436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34320" y="5943600"/>
            <a:ext cx="7596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3505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3505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3505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36576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562720" y="3886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56272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86728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6272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25909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1523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257800" y="1523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1523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1523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4080" y="10666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487480" y="106668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7924320" y="5334120"/>
            <a:ext cx="381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924680" y="5334120"/>
            <a:ext cx="3812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92468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05920" y="5334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648320" y="990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990720" y="10666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0773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5800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41008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the Structure of 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y Divis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iven the requirement to identify the organization, capabilities, imitations, personnel, and equipment requirements of an Army Division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marL="246960" indent="0">
              <a:spcBef>
                <a:spcPts val="901"/>
              </a:spcBef>
              <a:buNone/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cess to FM 71-100 and FM 101-5-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Defined the unit and map symbology used in a divi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Defined how a divison fights the Army air-land battle doctr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0800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Defined the types of divisions in the Ar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0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0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Defined the units in a division’s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0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8008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Defined a heavy unit’s capabilities, limitations and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Defined a light unit division’s capabilities, limitations and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52480" y="2133720"/>
            <a:ext cx="5943600" cy="320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3048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24480" y="304812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5560" y="129528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48120" y="3048120"/>
            <a:ext cx="32763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8120" y="3048120"/>
            <a:ext cx="327636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066680" y="1143000"/>
            <a:ext cx="7010640" cy="44956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2514600"/>
            <a:ext cx="5257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81280" y="2590920"/>
            <a:ext cx="1447920" cy="167616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09T16:02:06Z</dcterms:created>
  <dc:creator>ADG</dc:creator>
  <dc:description/>
  <dc:language>en-US</dc:language>
  <cp:lastModifiedBy>Administrator</cp:lastModifiedBy>
  <cp:lastPrinted>1999-08-12T14:49:43Z</cp:lastPrinted>
  <dcterms:modified xsi:type="dcterms:W3CDTF">2005-08-10T15:20:45Z</dcterms:modified>
  <cp:revision>68</cp:revision>
  <dc:subject/>
  <dc:title>Review the Structure of the Army Divi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A\CCA5H102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1328626875</vt:r8>
  </property>
  <property fmtid="{D5CDD505-2E9C-101B-9397-08002B2CF9AE}" pid="23" name="_AuthorEmail">
    <vt:lpwstr>herbert.m.lenton@us.army.mil</vt:lpwstr>
  </property>
  <property fmtid="{D5CDD505-2E9C-101B-9397-08002B2CF9AE}" pid="24" name="_AuthorEmailDisplayName">
    <vt:lpwstr>Lenton, Herbert SFC</vt:lpwstr>
  </property>
  <property fmtid="{D5CDD505-2E9C-101B-9397-08002B2CF9AE}" pid="25" name="_EmailSubject">
    <vt:lpwstr>Revised Slides</vt:lpwstr>
  </property>
</Properties>
</file>